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4176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13815-17DA-46D0-BA80-2D48797772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4C23B-B0CF-4250-8538-F3218F8F7C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1FCBB-E349-464D-B6E3-D45F1C3C1E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25FFD-BF8E-469F-B2E1-7442F84ADB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DC4E8-BA85-40A5-A08E-3B4E56DB3B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ECC1B-8A21-4361-B609-EABC3E6371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9863E-487F-4753-947B-68B0B30D37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6901B-2F10-4E16-9CD1-1A105E042D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7B4C9-78C6-4B93-8139-4EA655DD2D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A5EA9-3D29-4138-94DC-A943BE0149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AF446-2C6B-4286-B056-DF4C727707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7CCA5-55FB-443B-B07E-F71942E586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25EF1-8D3C-429E-A2E8-11D5995960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CDC07-5073-4730-BFBC-34B6D30284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951F4-2E42-40D1-8D89-A56B4EAFDE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15239-BA60-40F3-A337-191A7573A4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17E3C-02EB-4A46-B5BE-E3FCEDDDDE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52913-F826-4D35-BE3D-37FE5FA9D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9B954-AD86-47A7-9FF4-44EE31197E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0B786-3960-4FC1-8670-B2E96883E4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F6386-9F62-4165-A98E-7B3193CCB8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272F0-F6D1-400E-BBD2-F59119C17D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143000" y="68580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9E323-053E-4818-9EC1-2564278EED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7C87D-8D0C-491E-949C-8C779D5A58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DAD1E-ED92-48F0-BA5E-808EAE6372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E7112-CEC1-4FD8-B7EC-CBEF0D3C0E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3E3E8-5258-4433-BC03-293F50055A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33EFA-96FD-4B9A-93E0-D857CA73B1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A840C-1C95-46A9-83FF-D13BD3408B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7A032-EDFB-42BB-AA3E-77A3617F41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E25A6-1D33-45BF-90AF-5E50AE6E57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CD5FD-30C9-4F98-9A47-E82F77DD18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83B5F-04E0-4E1C-A953-0326F8C08C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EA71C-7A30-4A60-B528-263D667D6B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49E13-CD15-4A8B-B4D7-DEA4D52763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EEABB-04B8-4D27-9A41-9B1B6EB52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E79C2-3EAE-4672-8B30-E764A72581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A0701-0F0B-4AC9-9AFE-D47912A3BA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94B71-91D4-40AB-8857-A5C2E7AB76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C6C56-B10B-496D-AE64-B5FDE90AEA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64B-0AFD-4458-9727-909BBF83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1F2-1D42-4E25-8E2B-7B9C6BF8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876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018-A876-4957-8817-3F0046DF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956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156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956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156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4E0-C7A2-4D4F-90CF-05706A27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7F8-C8D2-4D6E-B085-FCF5B229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136-BB97-4101-AEAD-3B24B807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0DD-23EC-4F7F-B6BE-EF7C57FD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3E6-2C7A-42AB-879F-B0210D83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13560" cy="58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A4A-7386-4019-AC54-1C0EE0C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E10-50AF-4EAC-AA93-925EC94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876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2D6-7F61-416E-B5EA-4B9DF48A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7E7-14C4-43F5-87A6-86CCF512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65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29317-3B81-4D66-9A9D-D8B6C4B492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9" descr="C:\Users\birdtr\Desktop\LCJ-from-timdesk\2011-06-LCJ\CEWG-square-image.jpg"/>
          <p:cNvPicPr/>
          <p:nvPr/>
        </p:nvPicPr>
        <p:blipFill>
          <a:blip r:embed="rId3"/>
          <a:stretch/>
        </p:blipFill>
        <p:spPr>
          <a:xfrm>
            <a:off x="9360" y="166680"/>
            <a:ext cx="140184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events.linuxfoundation.org/slides/2011/linuxcon-japan/lcj2011_wysocki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tu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mbedded Lin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im 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 Group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LF CE Work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44520" y="676440"/>
            <a:ext cx="8454960" cy="18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1 (likely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chdog timer c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framework for handling power management domains was a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river/base/power/domain.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work was described by Rafael Wysocki at LinuxCon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ARM SoCs now have device tree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ngs to wat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arch sub-tree refac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http://lwn.net/Articles/443510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t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runtime PM impro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features sneaking into the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 timing pat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of patches to support integrated bootloader/kernel/user-space tim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short list of canonical “landmark”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kml.org/lkml/2011/9/23/3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ahead getting lots of att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eadahead in Ubun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my presentation at Android Builder’s Summit about readahead with Andro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napshot 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d topic, but still very pop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work both inside and outsid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much mainl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ELC 2011 presentation by Kang Dongw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system speed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funding work in this area (more lat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P (Execute-In-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removed from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sion in kernel was brok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of XIP on only out-of-tree platforms is a probl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y will be pushing AXFS to mai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load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boot on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 “Really fast x86 boot” presentation at FOSDEM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-Boot ARM caching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resentation by Andrew Murray at ELC Europ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ood philosophy of boot tim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19000"/>
            <a:ext cx="819936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GL ES is de-facto standard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id had Skia, but is moving to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go used Clutter, Qt, an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buffer is going away, with acceleration required for larger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moving towards Way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for 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multiple top-layer AP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work around memory management between kernel, user-space and G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lerated rendering is a big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 introduced render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LLVM to do runtime retargeting of script to whatever capabilities device 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support GPU in your SOC is very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 Driv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71900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VR graphics d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VR is being used lots of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l adopted for Cedarview and it's already in Sodavil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in very many ARM SOC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VR driver is closed-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n Cox submitted some driver pieces in Febru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mitted anything relating to out-of-tree binary driv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http://thread.gmane.org/gmane.linux.kernel/110379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strea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ill being used in T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32580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: Google TV uses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media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gefright – new media framework with both local playback and strea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32580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laces OpenCore, but old PV codecs can still be u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ec w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34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M/VP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32580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 codec by Goog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94480" indent="-32580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grated into HTML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lacing JFFS2 as default raw flash FS of ch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needs some boot time impro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FFS2 is not in mainline y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pite CELF fu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ears to be abando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XIP File system – developed by Intel/Numonyx but never mainl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 moving to Ext4 for future Android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ready using eMMC instead of raw fl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s said that main reason was SMP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ndaboard doesn’t have on-board fl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SDcard on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t to optimize Linux block filesystem layers for fl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Arnd Bergmann's work on filesystem performance on cheap flash media (ELC 20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719360"/>
            <a:ext cx="8199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time 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ly new ability to suspend and resume individual system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347573/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Magnus Damm’s slides at: http://elinux.org/ELC_2011_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fael Wysocki’s presentation at LCJ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s://events.linuxfoundation.org/slides/2011/linuxcon-japan/lcj2011_wysocki.p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power doma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of devices sharing power resources (clocks, power plane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719000"/>
            <a:ext cx="8458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WG is reviving Linux-tiny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loatwatch still running – but who looks at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elenic.com/bloatwa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g increases in some kernel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i Wang had a good talk at ELC 2010 about optimizing memory usage throughout the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space is memory problem area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 killer or OOM avoidance is big 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group memory not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roid has it's own th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lifecycle is key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erv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e of “general features for embedded” contributions to kernel seems 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lot of progress recently on bootup time reduction, size reduction, security in 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e problems and solutions shifted to user sp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t areas in kern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wer management, ARM board support refactoring, GPU management (memory sharing, driver suppor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ll seeking ways to facilitate participation of  embedded developers in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WG Contract Work 201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ootchart and smemcap in busy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unction-s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AFFS2 mainline eff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quashFS enhanc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-Boot ARM enhanc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e format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xecboot enhanc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WG Contract Work 201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bfbfbf"/>
                </a:solidFill>
                <a:latin typeface="Arial"/>
              </a:rPr>
              <a:t>Bootchart and smemcap in busyb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bfbfbf"/>
                </a:solidFill>
                <a:latin typeface="Arial"/>
              </a:rPr>
              <a:t>Function-s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AFFS2 mainline eff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bfbfbf"/>
                </a:solidFill>
                <a:latin typeface="Arial"/>
              </a:rPr>
              <a:t>SquashFS enhanc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bfbfbf"/>
                </a:solidFill>
                <a:latin typeface="Arial"/>
              </a:rPr>
              <a:t>U-Boot ARM enhanc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ce format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bfbfbf"/>
                </a:solidFill>
                <a:latin typeface="Arial"/>
              </a:rPr>
              <a:t>Kexecboot enhanc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bfbfbf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YAFFS2 eff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YAFFS2 is a popular NAND flash file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as used by Android in many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3 mainline attempts made, but hit some barr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urrently stuck on some locking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utlook for mainline acceptance is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s a classic case of developer wanting to retain multi-platform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is approach is rejected by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-1600200" y="2819520"/>
            <a:ext cx="8210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e Format Stand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reate a singled trace format standard for the embedded industry (CTF – Common Trace Form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www.efficios.com/ct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reuse of tools with data from different trac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belTrace trace conversion libr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verts trace formats into CTF (and back?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of of concept conversion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n convert kernel messages with timestamps to CTF and back to tex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WG Contract Work 201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fast symbol re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Device Firmware Upgrade (DFU) code in U-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on Linux tiny pat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prove UBIFS mount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-4191120" y="2467080"/>
            <a:ext cx="84582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2011 (cont.)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the watchdog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tend bluetooth stack with Remote SIM Acc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trace and debug documentation (on eLinux wik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Android kernel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inline fast symbol re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 symbol lookup to use binary search instead of linear scan to speed up module lo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 Mainlined in Linux v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hould see speedup in module lo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enefit is 10s to 100s of milliseconds, per module, depending on the number of symbols res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Alessio Boga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inline DFU code in U-Boo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Firmware Upgrade (DFU) is an industry standard for upgrading and manipulating firmware in embedd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readily available tools to re-flash the kernel and rootfs partitions on a targe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‘fastboot’ for And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fill partitions and boot into new kernel and fil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finish some cleanups, and do push to mainline U-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or: Stefan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inux tiny patc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val of Linux-tiny patch 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-port patches to latest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more patches to improve kernel configu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 lots of work in-prog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garbage collection almost finis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call optimization - in-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igurable duplicated features – in-prog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er random number generator – 50% 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archive=gitorious.org/tinylab/tinlinux.g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Wu Zhangj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Improve UBIFS mount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d logging to UBI to avoid bad-block scan of whole device on UBI attach 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BI attach scales linearly with flash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n take seconds on a large flash p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act is sta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ct results by ELC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Linuxtronix (Thomas Gleixne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lash filesystem tes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ublish performance results for each new kernel 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ults posted on elinux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elinux.org:/Flash_Filesystem_Bench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ork is ongo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ful results are posted every kernel rel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tractor: Fre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inline the watchdog fra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 generalized watchdog mecha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lnSpc>
                <a:spcPct val="8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ould provide easier method to add watchdogging to drivers and the kernel going for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 framework was written by Alan Cox and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tend bluetooth stack with Remote SIM Acc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for Linux bluetooth and telephony stack to utilize SIM in external device f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 use is for Linux-based in-car system to utilize SIM in mobile device for telepho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Bluetooth SIM Access Protocol suppo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bility to use SIM card in phone via bluetooth 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in-car telephony using existing hand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ification to BlueZ and oFono Linux telephony s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ez patches mainl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ono patches ready and should be upstream s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rnel patches stalled going to upstream because of kernel.org ou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or: ProF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inline android logc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line one simple patch set from And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 people (John Stultz at Linaro) are also trying to mainline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all goal is to incrementally reduce difference between Android and mainline ker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de-goal to easily produce single-kernel systems (outside of Google’s t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pproved by CEWG Architectu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ly: Allesio Bog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-4191120" y="2467080"/>
            <a:ext cx="84582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CEWG Project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elinux.or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ly, please help with the Android Por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rdware donations to community develop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progress of giving a PandaBoard to Steve Rosted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ngTerm Support kernel for the indus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TSI – see discussion this aftern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Ver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719000"/>
            <a:ext cx="85345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5 – 1 Aug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st longterm release for embedded = 2.6.35.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6 – 20 Oct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7 – 4 Jan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8 – 14 Ma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9 – 19 May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0 – 21 July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1-rc3 – 22 Aug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1 probably ready by end of October,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ther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E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EMU is being used everywhere, for device emulation (Android, Yoc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QEMU implementation (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w de-facto “umbrella” tool for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pry seasoned developers away from command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Trace Format standard ex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 and ftrace fairly mature in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cto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brella project – has builder, eclipse tools, other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Embedded and Yocto are getting inte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talks at ELC  and ELC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ll lots of custom build systems out t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izen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= Meego + LIMO (WAC technologies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b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P using it internally, but it won’t be a platform (from HP) in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egacy custom embe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ill no “standard” embedded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iz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rand new (this week) successor to Mee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l and Samsung, with Linux Foundation driving initi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kia dropped out of Mee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HTML5 as application plat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 technologies from WAC (Wholesale Applications Community) being ado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mehow LIMO is invol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e http://www.tizen.org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get a lot more info a ELC Eur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 3.1 SDK (Honeycomb r2) released May, 2011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ce Cream Sandwich due Q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ll unify mobile, tablet and TV platforms in one code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ne activations at 500,000 per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lvik ported to non-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riad Alien Dalvik  for Mee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edRobot for native Linu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Mobile’s ACL (Application Compatibility Lay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Industry organiz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Fou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lots of embedded-related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-31896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cto, Meego, CE Workgrou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-31896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cently announced Meego TV workgrou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F merger with 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is now the LF “CE Workgroup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utilizing LF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-31896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ould mean it’s easier for public to participate in CE WG initi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a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ing lots of great ARM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-31896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olchain releases, platform rele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iscellaneo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719000"/>
            <a:ext cx="8199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ockable bootlo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ounced by Motorola, Sony/Eric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nlock bootloader to install custom firm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pes the phone to remove DRM-protected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orola says you can re-lock by reinstalling vendor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use of Stack Over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site for answering detailed development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www.youtube.com/watch?v=NWHfY_lvKI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 developers answer questions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re you working 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measure of what needs work is whatever developers spent a lot of time working on last year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as t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hings have you seen this year that I mis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Armor – path-based security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keup cou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rnel-user interface to allow system to suspend aggressively without race conditions on wakup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OOM ki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391222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BKL remo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ZO compression in 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time PM 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WN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lwn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not subscribed, please do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Newb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kernelnewbies.org/Linux_2_6_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 - </a:t>
            </a:r>
            <a:r>
              <a:rPr b="0" lang="en-GB" sz="3000" spc="-1" strike="noStrike">
                <a:solidFill>
                  <a:srgbClr val="3333cc"/>
                </a:solidFill>
                <a:latin typeface="Arial"/>
              </a:rPr>
              <a:t>http://elinux.org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elinux.org/Event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-embedded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vger.kernel.org/vger-lists.html#linux-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7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mp lab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s (almost completely) the overhead when tracing calls are disab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http://lwn.net/Articles/412072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8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f symbols abs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'symfs' option for off-box analysis of perf.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good for 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information from dying kernel into some persistent 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mtdoops or ramo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http://lwn.net/Articles/434821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power domains for runtime P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arch tree changes (just start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st symbol resolution for module lo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search instead of linear lookup for module l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X alarm ti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Android Alarm Ti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429935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KL function calls are now g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ARM arch tree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Bird, Tim</cp:lastModifiedBy>
  <dcterms:modified xsi:type="dcterms:W3CDTF">2011-09-29T23:34:12Z</dcterms:modified>
  <cp:revision>132</cp:revision>
  <dc:subject/>
  <dc:title>elinux status</dc:title>
</cp:coreProperties>
</file>